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0662-367D-423A-A4A1-2442F8EBFD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СЬ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ОЛОТАЯ ОР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9837-E051-45A6-8D22-FE31EA2D2E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и всегда сопровождался насилием и грабежом, тех кто не платил обращали в раб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BEBA-3528-4DE2-B34C-C97CDE0320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поставлять воинов в монголо-татарское войс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0269-4AA5-4F2B-AC95-CD16B968DEC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русского народа против ордынского влады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6E9E-E5A6-46FB-B8AD-BDDBFA72A2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следствия ордынского владыч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ушены го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становлено каменное строи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ошла утрата многих ремес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становился процесс развития феодального землевла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тилась численность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ая культура пришла в упад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з-за пожаров погибло множ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едений искусст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енных источник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9BF4-068D-41C5-8EFE-D9DEE3CA35A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А с другой сторо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есть и полож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за долгие годы ордынское владычество привело к взаимному влиянию друг на друга в хозяйстве, быту, языке, власти.(в учеб.стр.119 най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8088-3402-4410-806D-6ACDF14272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голо-татарское иг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4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B911-7AEA-4FE9-928B-C30AD646D75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D9F9-2558-461E-8384-CC2952208D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разование Золотой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ый образовал собственное государство: земли Волжской Булгарии, Половецкая степь, Крым, Приуралье, Западная Сибирь, часть Средне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12B0-A657-4B17-9D74-52B4D95DDAF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Сарай –Бат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ереводе дворе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2103-6196-48A3-8F65-FFDA41C95A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усские земли не вошли в состав, но они попали в вассальную зависимость от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6D72-2C04-4AED-9543-067AB1923FF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Ярлык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ханская грамота, дававшая право русским князьям властвовать в своих зем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ым привлекательным был ярлык на владимирское княжество, т.к. теперь не киевский князь, а владимирский имел право на старши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1A36-F5CD-44F8-8333-689C9D191D5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ездки русских князей в Орду сопровождались унижениями и часто заканчивались их смер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4FAF-2B5D-4AE0-BFDF-FF7C3DF480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аска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– представитель ордынского хана на Руси, который осуществлял контроль за действиями князей, ведал сборам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5A77-6843-4E96-8B90-AB6B59F0F8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«Ордынский выход»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– ежегодная дань, которую собирали на Руси для хана Золотой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7391-1916-4E19-B1BD-C68F1D3CB6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7-1259 годах монгольские чиновники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исл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вели на Руси перепись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Численник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– монгольский чиновник, проводивший перепись насел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жители были переписаны и обязаны были ежегодно платить большую да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ь не платило только духовенство, которое завоеватели стремились использовать для укрепления своей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F4AA-C3DF-4170-8404-807B9885FD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D62-AD1E-4CAB-BB4D-FC6171B3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80D-1BE2-4BC6-83A2-0E1D2F14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28F-4E8B-4B16-A992-8E157F97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DA5-F5C5-4E6F-8DD2-8C6E7695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4D6B-BA53-4869-A4AF-503D1BDB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2471-1643-4A98-9AE0-83384FA0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E5B4-2F88-48DB-B494-2408089C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81E8-2245-477A-8912-C095D0F8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AECB-05D9-4FCA-85DC-F1C4A9F8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A97F-C7E3-4102-A77F-39485F65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8A8E-FEC9-4F19-A615-1B41C925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08E-F8C7-4E76-BCBB-7A90F3C4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A1E9-E762-484A-AC39-CBBB194B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9CF9-7E31-45E7-A456-DF8F433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0359-188A-4232-882F-D0BF2AA0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D449-5A62-4FBE-A7CA-9D4A57D2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7EF0-9623-46F1-897B-6C12FE58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5E0-7016-444E-86AB-7AC3D800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B90-0ECE-473B-87A8-FA750DE5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6B8-F596-4E8F-9918-AE8C59EA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425-711E-4A2A-86F6-EC10D337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D76-6A1D-491F-82B0-41DB9CBE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2AE-EA59-4626-AE75-547C6E58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BE2-EB06-40CB-88EB-E8A6F366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8D09-7A97-41DB-8E62-2A9F1DE6B7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63521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1CDF-93D3-40D8-A0BD-16087E0442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b274"/>
                </a:solidFill>
                <a:latin typeface="Tahoma"/>
              </a:rPr>
              <a:t>РУСЬ И </a:t>
            </a:r>
            <a:br>
              <a:rPr sz="6000"/>
            </a:br>
            <a:r>
              <a:rPr b="1" lang="ru-RU" sz="6000" spc="-1" strike="noStrike">
                <a:solidFill>
                  <a:srgbClr val="d8b274"/>
                </a:solidFill>
                <a:latin typeface="Tahoma"/>
              </a:rPr>
              <a:t>ЗОЛОТАЯ ОРДА</a:t>
            </a:r>
            <a:endParaRPr b="0" lang="en-US" sz="6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3066840" cy="38098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4541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95280" y="47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 дани всегда сопровождался насилием и грабежом, тех кто не платил обращали в раб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Обязанность поставлять воинов в монголо-татарское войско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Борьба русского народа против ордынского владычества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29600" cy="4496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268360" y="630864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тать в учеб стр.118, в р/т №1стр.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b274"/>
                </a:solidFill>
                <a:latin typeface="Tahoma"/>
              </a:rPr>
              <a:t>Последствия ордынского владычества</a:t>
            </a:r>
            <a:endParaRPr b="0" lang="en-US" sz="32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181080" y="1125000"/>
            <a:ext cx="6840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ушены 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становлено каменное строитель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ошла утрата многих ремес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становился процесс развития феодального землевла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кратилась численность на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сская культура пришла в упадо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из-за пожаров погибло множ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едений искусств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ьменных источник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3276720" cy="4249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826920" y="1073160"/>
            <a:ext cx="77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8b274"/>
                </a:solidFill>
                <a:latin typeface="Tahoma"/>
              </a:rPr>
              <a:t>А с другой стороны</a:t>
            </a:r>
            <a:r>
              <a:rPr b="0" lang="ru-RU" sz="2800" spc="-1" strike="noStrike">
                <a:solidFill>
                  <a:srgbClr val="d8b274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d8b274"/>
                </a:solidFill>
                <a:latin typeface="Tahoma"/>
              </a:rPr>
              <a:t>есть и положительно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за долгие годы ордынское владычество привело к взаимному влиянию друг на друга в хозяйстве, быту, языке, власти.(в учеб.стр.119 най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Монголо-татарское иго:</a:t>
            </a:r>
            <a:br>
              <a:rPr sz="4000"/>
            </a:b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1242-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971640" y="173880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6320" indent="1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b274"/>
                </a:solidFill>
                <a:latin typeface="Tahoma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4 (п.1,2,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3f27"/>
                </a:solidFill>
                <a:latin typeface="Tahoma"/>
              </a:rPr>
              <a:t>Образование Золотой Орды.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тый образовал собственное государство: земли Волжской Булгарии, Половецкая степь, Крым, Приуралье, Западная Сибирь, часть Средней Аз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3284640"/>
            <a:ext cx="8281800" cy="792000"/>
          </a:xfrm>
          <a:custGeom>
            <a:avLst/>
            <a:gdLst>
              <a:gd name="textAreaLeft" fmla="*/ 1449360 w 8281800"/>
              <a:gd name="textAreaRight" fmla="*/ 6004440 w 82818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835280" y="4859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Золотая Ор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Столица Сарай –Бату </a:t>
            </a:r>
            <a:br>
              <a:rPr sz="4000"/>
            </a:b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(в переводе дворец)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усские земли не вошли в состав, но они попали в вассальную зависимость от Орды.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744720" cy="43225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4859280" y="2554200"/>
            <a:ext cx="3168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 1242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 северо-восточные княжества были отправлены послы, с требованием явиться к Баты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2846520" cy="4392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611280" y="620640"/>
            <a:ext cx="7632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Ярлык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ханская грамота, дававшая право русским князьям властвовать в своих земл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0" y="2349360"/>
            <a:ext cx="40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мым привлекательным был ярлык на владимирское княжество, т.к. теперь не киевский князь, а владимирский имел право на старш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019240" y="1530360"/>
            <a:ext cx="5216760" cy="4994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24000" y="449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ездки русских князей в Орду сопровождались унижениями и часто заканчивались их смерть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95280" y="189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b274"/>
                </a:solidFill>
                <a:latin typeface="Tahoma"/>
              </a:rPr>
              <a:t>Баскак</a:t>
            </a:r>
            <a:r>
              <a:rPr b="0" lang="ru-RU" sz="2400" spc="-1" strike="noStrike">
                <a:solidFill>
                  <a:srgbClr val="d8b274"/>
                </a:solidFill>
                <a:latin typeface="Tahoma"/>
              </a:rPr>
              <a:t> – представитель ордынского хана на Руси, который осуществлял контроль за действиями князей, ведал сборами д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5749920" cy="4392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697800" cy="4733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324000" y="2602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274"/>
                </a:solidFill>
                <a:latin typeface="Tahoma"/>
              </a:rPr>
              <a:t>«Ордынский выход»</a:t>
            </a:r>
            <a:r>
              <a:rPr b="0" lang="ru-RU" sz="3200" spc="-1" strike="noStrike">
                <a:solidFill>
                  <a:srgbClr val="d8b274"/>
                </a:solidFill>
                <a:latin typeface="Tahoma"/>
              </a:rPr>
              <a:t> – ежегодная дань, которую собирали на Руси для хана Золотой Ор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95280" y="25560"/>
            <a:ext cx="8199360" cy="65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257-1259 годах монгольские чиновники –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численни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ровели на Руси перепись насе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274"/>
                </a:solidFill>
                <a:latin typeface="Tahoma"/>
              </a:rPr>
              <a:t>Численник</a:t>
            </a:r>
            <a:r>
              <a:rPr b="0" lang="ru-RU" sz="3200" spc="-1" strike="noStrike">
                <a:solidFill>
                  <a:srgbClr val="d8b274"/>
                </a:solidFill>
                <a:latin typeface="Tahoma"/>
              </a:rPr>
              <a:t> – монгольский чиновник, проводивший перепись насе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жители были переписаны и обязаны были ежегодно платить большую дан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ь не платило только духовенство, которое завоеватели стремились использовать для укрепления своей вла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1:17:04Z</dcterms:created>
  <dc:creator>Галкина</dc:creator>
  <dc:description/>
  <dc:language>en-US</dc:language>
  <cp:lastModifiedBy>LEGION</cp:lastModifiedBy>
  <dcterms:modified xsi:type="dcterms:W3CDTF">2015-01-14T09:50:1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90000000000010250300207f7000400038000</vt:lpwstr>
  </property>
</Properties>
</file>